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4C0F-36B4-4942-85E9-7292A36E6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AC3E-BA49-4693-9C70-94896D1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3853-86C9-4099-B9CC-AFA1A0C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576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2E7F-E913-4A41-81C9-3EC5E96D7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B44B3-1410-4C2B-9622-90EF5ED3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66DDE-D083-4D28-864F-5E6CDFB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8A23-75D5-43FD-B994-217937EF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C3B62-FE63-40E5-89D1-CC065CEC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B9C9-A8EB-4A73-A4B3-0F7AE33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2320" y="534600"/>
            <a:ext cx="7834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93901-6931-4E3D-86B5-8BD61C4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D3241-BCFF-45CC-86B9-C2541E0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4E75-664A-476B-8309-0BF1898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C9FB-DC54-4248-A23C-87D2BBD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D462-8DF7-4EBE-A071-01053D3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47C2-69BD-4502-BE87-6689534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075E-8C16-44FC-B0C5-178387BF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412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1576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412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EC00F-3D69-4874-9B4B-72218A94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4DEC-E63B-47B5-9C9B-43EF047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9CFD-FC77-4A1E-9FF3-D8D96C4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CEEB-6589-498A-A4CD-1191C254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2320" y="534600"/>
            <a:ext cx="7834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9A7E-58DE-4E60-A1F7-E3B2B01B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E7FC-6D6E-49D9-AF9D-BC4266D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982F-CF54-4B9D-B1C3-A0B3377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A0D5-55C2-47CE-B93C-2E8CEB0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0C72-3F87-4293-8506-E1F6B00D8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3000"/>
          </a:bodyPr>
          <a:p>
            <a:pPr marL="2844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717120" y="58226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59000" y="5822640"/>
            <a:ext cx="28958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359040" y="58226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43D5-D2E2-414C-8F79-4DD9FEE3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479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8.3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New Civil Rights Issu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52320" y="534960"/>
            <a:ext cx="78375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343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0280" y="228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. Kerner Commission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95560"/>
            <a:ext cx="411480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Study to see what caused          the rio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Racism key reas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Recommendations to stop         rio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reate 2 mil inner-c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6 mil units of publ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ederal commi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fight de fa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D. Shift to Economic Right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6120" y="1860120"/>
            <a:ext cx="366552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Felt non-viol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hel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r. King to Chicago, issue of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oved i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Chicago sl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64160" y="1874880"/>
            <a:ext cx="366552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3. Chicago Movemen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 March through 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Marquette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eighborho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 Met by a mo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. Mayor Richard J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ley met with MLK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i. Created a progra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/ MLK Jr, neve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2320" y="579600"/>
            <a:ext cx="78361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effects of the Civil Rights Act of 1964 on the African American Commun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. Black Power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444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ng, urban blacks    turn from Dr. 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ew aggressive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r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eparate areas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68840" y="1860480"/>
            <a:ext cx="366084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15760" y="685440"/>
            <a:ext cx="366372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ORE &amp; SNCC, expel white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tressed pride in African American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r. King did not agree w/ black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opular in poor neighborh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200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7835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. Malcolm X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22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ymbol of black power m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ation of Is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lack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lack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Live in separat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dvocated self-def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11800" y="1371600"/>
            <a:ext cx="3146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534600"/>
            <a:ext cx="7837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Lesson Objective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16120" y="1860120"/>
            <a:ext cx="751032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discuss the   Kerner Com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discuss why  economic rights became an issue for the Civil Rights M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explain the Black Power Movement and it's effects on the African American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31840" y="0"/>
            <a:ext cx="511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3664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roke w/ Black Muslims in '6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raveled to Makkah (Mec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**Integrated society i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hot and killed,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. 19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6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G. Black Panther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5760" y="1860480"/>
            <a:ext cx="366372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fluenced by Malcolm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volutio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Force whites to grant them their r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9116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86200" y="32004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6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H. King Assassinated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5760" y="1599840"/>
            <a:ext cx="3663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pril 4th, 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mphis, Te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tarted riots in over 100 c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ivil Rights Act of 1968, passed after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ovement slowed after his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86440" y="1371600"/>
            <a:ext cx="31431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1960" y="534600"/>
            <a:ext cx="7837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A. Urban Problem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7848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. 1965: 70% lived in the citi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. Trapped in the citi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. Lack of meaningful work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b. Average income: 55% of white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nco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. Unemployment rate, double that of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hit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. Watts Rio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Neighborhood in L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llegations of poli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t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Lasted 6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14,000 Natio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1,500 Poli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4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3. Riots Across America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66552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Worst in Detroi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43 deaths, 1,0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wou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Army us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end ri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6:36Z</dcterms:created>
  <dc:creator>Milner Lab User</dc:creator>
  <dc:description/>
  <dc:language>en-US</dc:language>
  <cp:lastModifiedBy>School District U46</cp:lastModifiedBy>
  <dcterms:modified xsi:type="dcterms:W3CDTF">2011-04-13T13:10:11Z</dcterms:modified>
  <cp:revision>7</cp:revision>
  <dc:subject/>
  <dc:title>18.3 New Civil Rights Issues</dc:title>
</cp:coreProperties>
</file>